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AC5-2A4A-4CBD-A9CA-53707FA6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946-AF83-4211-8F8D-A65F83BB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3E7-D1C0-4C75-A499-092BB168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6AD-48F3-40D7-8424-2E1D6036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406-C1EE-49AA-9F03-C5008D57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F53-E9F6-4B38-96D2-F95C9559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544-18D5-49B0-9FFA-3292129D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3B8D-04F4-4D4D-807F-46F99E5C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FB62-73A7-444A-B032-9E237DD4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198-7785-4A70-BB4E-99131DF1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848-2068-4D0A-9800-6F3A543E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A71-0315-42F9-840D-D602512F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95A6-4887-4D72-8E55-E64036295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4.3 and 4.4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14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90 #90,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302-3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0-36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48, 54,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70-76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ational zero tes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ave rational zero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(x) is factored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= a(x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x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zeros are represented by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leading co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const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is a factor of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is a factor of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ational zero tes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ational zeroes exist, they will be a ratio of p/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is one: 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7x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Objectives for 4.4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arithmetic operations on complex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quadratic equations having complex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he fundamental theorem of alg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polynomials having complex zeros and complex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ary numbers: i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√(-1), 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ex numbers: all real number and all imaginary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and subtract as if i is a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i-1+3i+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Multiplying and dividing complex number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-i)(5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: eliminate by multiplying the numerator and the denominator by the conjugate of the denominator (change the middle sign of a + b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i/(3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Solving quadratics with imaginary solution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x+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-2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± √(2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4(1)(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2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± √(4-4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2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± √-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2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± 6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-1 ± 3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Fundamental Theorem of Algebra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nomial function f(x) of degree 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≥ 1 has at least one complex (remember– real or imaginary)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polynomial of degree n has at most n distinct z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449568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onjugate zeros theorem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polynomial has only real coefficients and if a+bi is a zero of f(x), then a-bi is also a zero of 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21:31:02Z</dcterms:created>
  <dc:creator>nuhs</dc:creator>
  <dc:description/>
  <dc:language>en-US</dc:language>
  <cp:lastModifiedBy>nuhs</cp:lastModifiedBy>
  <dcterms:modified xsi:type="dcterms:W3CDTF">2008-02-14T18:19:52Z</dcterms:modified>
  <cp:revision>3</cp:revision>
  <dc:subject/>
  <dc:title>4.3 and 4.4</dc:title>
</cp:coreProperties>
</file>